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73526"/>
        <c:axId val="86776366"/>
      </c:barChart>
      <c:catAx>
        <c:axId val="15473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76366"/>
        <c:crosses val="autoZero"/>
        <c:auto val="1"/>
        <c:lblAlgn val="ctr"/>
        <c:lblOffset val="100"/>
        <c:noMultiLvlLbl val="0"/>
      </c:catAx>
      <c:valAx>
        <c:axId val="86776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73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B65-F081-477E-B1D6-AD859D33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D17-2540-40C8-A7CD-31963B43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800-D9BD-4919-AFFF-E30DBE54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0AA-649E-4E9C-B2D2-E12E248B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493-18AF-4C3B-88E5-B0618469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A1A-AA43-4EFA-AAFD-73EB2A81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A3B-4EE1-4A18-AEBE-DD22EEE9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5DA-195C-4225-B29F-9037EB12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08B-54DC-4D61-BB11-BB4C8D5F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C26-C038-4E31-98FB-4B146840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2B6-5542-4D21-8929-06BFF7D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FCF-6A67-4C7C-A800-62675128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7B820-AB94-4A73-A74D-3842608D96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