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388893"/>
        <c:axId val="80250304"/>
      </c:barChart>
      <c:catAx>
        <c:axId val="53388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50304"/>
        <c:crosses val="autoZero"/>
        <c:auto val="1"/>
        <c:lblAlgn val="ctr"/>
        <c:lblOffset val="100"/>
        <c:noMultiLvlLbl val="0"/>
      </c:catAx>
      <c:valAx>
        <c:axId val="80250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88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D9C-7F17-432D-BD5F-CCE69754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6D7-15F1-4354-8710-C14E3323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0BF-6B5F-401D-95C4-42842412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40E-0495-4695-A4BD-BDD80B98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A0A0-7BD3-407D-A03A-08EC2D94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2F8F-AC97-4CD6-A1D5-53F88F02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9F3B-29E5-4897-A559-54D954B9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4D5-9D95-4173-932C-4BF6E08A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A25-3B5A-46F0-B951-8F869691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CEF-F0C1-4116-9365-A69B97C2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91F9-F3A8-4721-A256-AD158F2B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874-89D2-429F-9E78-FB4C0817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C0227-A6CB-45D9-AA6C-B44DF00BEC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